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C5E2C-6708-4EF1-8674-420B33930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EB595-D8D9-4FF3-AB11-730C8A974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0606C-93D0-4134-9612-F558FAD740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91B20-D5F5-46B6-8200-47FD81A6A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54E6-F348-4C55-AF02-8883E81815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77058-E80E-4BB6-A590-DF174068F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82E8-808A-4245-8E48-CC14CF364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4024-C28E-42DA-A421-B89ACBEE5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8B45F-2A33-4AB2-8BBC-0183403D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77F7-C420-4C24-8BCE-3D721E94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03DD5-E8F8-4BC9-9F73-64DF3C8DBB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5C0BF-B726-473D-AB47-75C2AE90E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AE02D-5AE5-432D-BD21-63C6FE5D3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Times New Roman"/>
              </a:rPr>
              <a:t>Test for index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A two slides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Times New Roman"/>
              </a:rPr>
              <a:t>Used for full text 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Stéphane Rossé</cp:lastModifiedBy>
  <dcterms:modified xsi:type="dcterms:W3CDTF">2019-02-18T09:03:56Z</dcterms:modified>
  <cp:revision>2</cp:revision>
  <dc:subject/>
  <dc:title>Sample Powerpoint Slide</dc:title>
</cp:coreProperties>
</file>